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343C-ED39-420F-9674-17908317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1DF-90EA-4D1D-9BA7-977C581A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153-0DA0-4542-B7D0-8322EAE9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3108-CC4D-4A2C-A4D9-CCF2CE06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3F90-3C2C-433B-A015-CDF6CCE8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4F7C-8569-433A-93F9-CCDF31BC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23B3-B237-497B-A94C-05624D92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7C45-BA9B-435E-A16D-4F5030FD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F23A-4E1C-4BC1-BF3F-82C708E4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56B0-DFF9-456E-88A1-24AC15C9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87B5-6FC5-49AC-932A-37CA8F5A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55E-AE04-434D-90C9-B5312560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6445-98AB-44F9-9453-6B508C58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2BA9-4D9E-425F-8082-E3B74151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50D9-5430-4892-89DC-C49B729F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8A21-D699-44FD-AB34-C50C3827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3F434-9409-43A0-91D5-9C418231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754E6-56E5-4F37-A4A3-9F3450FB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C30B7-9C91-4B96-9206-4975E1FF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8E296-5D8A-489D-B969-2FB6FFB6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5DE27-F917-4C18-AB3D-12FD159C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6699-7F87-44FD-BB0F-231BA104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6B4-3C24-4703-9F39-7821DABE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40936-CC57-4944-8206-CA1F251A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58FE-A932-4C46-8EFF-CDDA6D4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2C9BC-9006-4C22-B3B4-9026ABB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789DA-FFF1-4B78-9ECD-F344AE1C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C64A3-1D76-41A7-87AB-D800B186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9085-752D-478E-AA3B-FA385235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A9389-2B8B-4A28-B538-E1A883DE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8FEDC-3E63-480F-B778-F5697408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9126-FAC8-469C-93C8-B1A9282D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D9FA7-7D0D-4A5E-9F6B-143B4C82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4B7F-2F3B-46BD-9463-BDD36350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E7DF1-12E6-4A7A-8333-0831BE69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05029-13F1-4833-9C59-FA14E5AE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FA3E2-9E34-41CD-B3A8-1C17C71E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BC931-913F-4FFD-A59A-53B7EB99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6BF5-B8FD-4807-BD36-2BAE464B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62683-ECC7-4D3B-80E8-6E833F5C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D9F10-DC65-4EE9-96D4-D54510AA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DFE3-07D2-4815-BA4E-7AE9FAF9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EEF51-DE46-4C35-8109-31E5E27CA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D68A0-D784-4B2B-9DCF-A6C12240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393-586A-42DB-9096-B886638C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46B7-1B00-4EE0-B961-BE6F984E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B94D0-C438-4CEE-8F99-6D4C38DA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AC6E-996C-46A4-85E2-FF14F031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542D-10D2-4081-B737-A2F0C5E6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2D5EB-44AD-451A-9CDC-CF46A09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8E273-3403-44D9-A44F-FC3BB45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9006E-4857-4B5A-B412-151C9366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0446-7ECE-4506-A3EE-723B5FB6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E1576-8C16-4F22-9936-C1066720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F862-CE96-4ECC-BF55-83628C24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0DA9-8B96-4E43-9187-CE82ADD2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1F5EC-871B-46A0-8722-34746614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7887ED-2703-4FDC-AFC9-64E96FE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9076B4-E86E-4E53-B92B-A9330E2E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6CED22-C951-4A9D-8A55-4BE32A57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C51B0-6C39-44FD-BC52-8D5D85FF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AA731C-97FC-43C4-BE19-F3C928C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67481-317D-4B5A-A765-8188AD9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97DE0-B6E6-4345-9F6C-1D98310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3663A5-EE2F-4F16-AE49-4531414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841CA-0AAB-4C7B-8CFD-BB41CEBD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89A-618C-4AE0-87B9-4F81453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6B2CC-C91F-4811-914E-F6C25A4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DB86D-BD09-498F-9315-39435FA2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24025-C720-4EE8-AC95-AF78D902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A5FAB-2027-450F-B1A9-CA8EF817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5B0B-F042-461A-9D25-FEE5CEA4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4CE6B-448C-4592-B30F-1EBBABF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1525C-4891-459C-A8EF-178EB4C4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6B40C-27D0-4A5F-8466-896FC8D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152A3-F3AD-40BC-9BA2-14CF66EC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B86D9-7B59-44CC-8E45-F547859A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9D6-A4DE-4AB9-BA23-6463E80A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E347B-93FF-4563-9F02-39873854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C476D-BB57-4A82-87FC-CDC417B0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C31C5-0F4A-4D46-A6BE-3E7302EF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6FE84-09B2-421E-B8AF-A97CB423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562C3-E82E-439E-B408-BB88996E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2A73-A2EE-4E0B-8377-39B1A90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F9E7-9C7A-401F-B014-4ABF771767F4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49" name="Rectangle 12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12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2" name="Rectangle 13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3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5" name="Rectangle 14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526db0">
              <a:alpha val="70000"/>
            </a:srgbClr>
          </a:solidFill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Rectangle 16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3d3d3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528C-7014-4E78-BA5A-D980A5AC0FD9}" type="slidenum">
              <a:rPr b="0" lang="en-US" sz="2800" spc="-1" strike="noStrike">
                <a:solidFill>
                  <a:srgbClr val="3d3d3d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5" name="Rectangle 13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151D-BD98-49FA-8A29-6A3E28CC3CAB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335E-0C73-472C-B08B-BB7EF212594E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94" name="Rectangle 12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12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97" name="Rectangle 13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5c5c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0151-4BC7-4C0A-B6EC-1C595C2D7DA4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41" name="Rectangle 12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12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4" name="Rectangle 13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BEA2-1E95-47D3-9C7A-3054705A58B8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f5c2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526db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989a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dc59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26FB-B853-4401-8DC9-F62E9A0D1874}" type="slidenum">
              <a:rPr b="0" lang="en-US" sz="12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42600" y="464832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c201"/>
                </a:solidFill>
                <a:latin typeface="Century Gothic"/>
              </a:rPr>
              <a:t>EXPLAINING DIFFERENCES/ EXPLAINING SIMILARITIES</a:t>
            </a:r>
            <a:endParaRPr b="0" lang="en-US" sz="18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604440" y="322704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d3d3d"/>
                </a:solidFill>
                <a:latin typeface="Book Antiqua"/>
              </a:rPr>
              <a:t>NATURE VS NURTURE</a:t>
            </a:r>
            <a:endParaRPr b="0" lang="en-US" sz="40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Content Placeholder 3" descr=""/>
          <p:cNvPicPr/>
          <p:nvPr/>
        </p:nvPicPr>
        <p:blipFill>
          <a:blip r:embed="rId1"/>
          <a:stretch/>
        </p:blipFill>
        <p:spPr>
          <a:xfrm>
            <a:off x="3718080" y="1295280"/>
            <a:ext cx="500220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768240" y="2971800"/>
            <a:ext cx="2298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d1282e"/>
              </a:solidFill>
              <a:latin typeface="Century Gothic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The Minnesota Twin Study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768240" y="1733400"/>
            <a:ext cx="2298960" cy="119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Book Antiqua"/>
              </a:rPr>
              <a:t>IDENTICAL TWINS REARED APART…</a:t>
            </a:r>
            <a:endParaRPr b="0" lang="en-US" sz="20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8240" y="2895480"/>
            <a:ext cx="22989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Century Gothic"/>
              </a:rPr>
              <a:t>Characteristics more similar to biological parents..</a:t>
            </a:r>
            <a:endParaRPr b="0" lang="en-US" sz="1600" spc="-1" strike="noStrike">
              <a:solidFill>
                <a:srgbClr val="d1282e"/>
              </a:solidFill>
              <a:latin typeface="Century Gothic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d3d3d"/>
                </a:solidFill>
                <a:latin typeface="Century Gothic"/>
              </a:rPr>
              <a:t>With some exceptions.. Faith, values, manners, attitude.</a:t>
            </a:r>
            <a:endParaRPr b="0" lang="en-US" sz="1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768240" y="1733400"/>
            <a:ext cx="2298960" cy="119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ADOPTION STUDIES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66" name="Content Placeholder 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2177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YOUR “GENETIC” OR “CORE” OF YOUR PERSONALITY</a:t>
            </a:r>
            <a:br>
              <a:rPr sz="2800"/>
            </a:br>
            <a:r>
              <a:rPr b="1" lang="en-US" sz="2800" spc="-1" strike="noStrike">
                <a:solidFill>
                  <a:srgbClr val="d1282e"/>
                </a:solidFill>
                <a:latin typeface="Book Antiqua"/>
              </a:rPr>
              <a:t>IS YOUR TEMPERAMENT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16765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Easy child 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Difficult child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The Slow-to-warm-up child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283659"/>
                </a:solidFill>
                <a:uFillTx/>
                <a:latin typeface="Century Gothic"/>
              </a:rPr>
              <a:t>What works best?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Parent/Child-Goodness-of-fit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“</a:t>
            </a: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Life is like a game of cards.  The hand that is dealt you presents determinism; the way you play it is free will.”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83659"/>
                </a:solidFill>
                <a:latin typeface="Century Gothic"/>
              </a:rPr>
              <a:t>Nehru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Content Placeholder 5" descr=""/>
          <p:cNvPicPr/>
          <p:nvPr/>
        </p:nvPicPr>
        <p:blipFill>
          <a:blip r:embed="rId1"/>
          <a:stretch/>
        </p:blipFill>
        <p:spPr>
          <a:xfrm>
            <a:off x="3505320" y="2730600"/>
            <a:ext cx="3900240" cy="2936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768240" y="2971800"/>
            <a:ext cx="2298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82e"/>
                </a:solidFill>
                <a:latin typeface="Century Gothic"/>
              </a:rPr>
              <a:t>    </a:t>
            </a:r>
            <a:r>
              <a:rPr b="1" lang="en-US" sz="2800" spc="-1" strike="noStrike">
                <a:solidFill>
                  <a:srgbClr val="d1282e"/>
                </a:solidFill>
                <a:latin typeface="Century Gothic"/>
              </a:rPr>
              <a:t>Nurture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768240" y="1219320"/>
            <a:ext cx="2965680" cy="17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600"/>
            </a:br>
            <a:r>
              <a:rPr b="1" lang="en-US" sz="1600" spc="-1" strike="noStrike">
                <a:solidFill>
                  <a:srgbClr val="5c5c5c"/>
                </a:solidFill>
                <a:latin typeface="Book Antiqua"/>
              </a:rPr>
              <a:t>THE ENVIRONMENT (AND OUR EXPERIENCES) SHAPE US…</a:t>
            </a:r>
            <a:br>
              <a:rPr sz="1600"/>
            </a:br>
            <a:endParaRPr b="0" lang="en-US" sz="16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NATURE ENABLES NURTURE</a:t>
            </a:r>
            <a:br>
              <a:rPr sz="3200"/>
            </a:b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AND NURTURE ENABLES NATURE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Critical Period: 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An important time in development where development needs to happen or it will be delayed or dysfunctional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Prenatal influences:  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German measles, birth defects, teratogens, fetal alcohol syndrome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d1282e"/>
                </a:solidFill>
                <a:uFillTx/>
                <a:latin typeface="Century Gothic"/>
              </a:rPr>
              <a:t>Culture:</a:t>
            </a: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 Establish their own norms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c5c5c"/>
                </a:solidFill>
                <a:latin typeface="Book Antiqua"/>
              </a:rPr>
              <a:t>EXPERIENCE AND BRAIN DEVELOPMENT… IT’S COMPLICATED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283659"/>
                </a:solidFill>
                <a:uFillTx/>
                <a:latin typeface="Century Gothic"/>
              </a:rPr>
              <a:t>Impoverished Environment 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1282e"/>
                </a:solidFill>
                <a:latin typeface="Century Gothic"/>
              </a:rPr>
              <a:t>The Somerville Project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283659"/>
                </a:solidFill>
                <a:uFillTx/>
                <a:latin typeface="Century Gothic"/>
              </a:rPr>
              <a:t>Enriched Environment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Abecedarian Project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BIG BOYS DON’T CRY!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82" name="Content Placeholder 3" descr=""/>
          <p:cNvPicPr/>
          <p:nvPr/>
        </p:nvPicPr>
        <p:blipFill>
          <a:blip r:embed="rId1"/>
          <a:stretch/>
        </p:blipFill>
        <p:spPr>
          <a:xfrm>
            <a:off x="2712960" y="1905120"/>
            <a:ext cx="3154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c5c5c"/>
                </a:solidFill>
                <a:latin typeface="Book Antiqua"/>
              </a:rPr>
              <a:t>HOW DOES NATURE AND NURTURE INTERACT TO DEFINE US AS MALE OR FEMALE?</a:t>
            </a:r>
            <a:endParaRPr b="0" lang="en-US" sz="28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Gender Roles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A set of expected behaviors for males and for females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Gender Identity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entury Gothic"/>
              </a:rPr>
              <a:t>One’s personal sense of being male or female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QUESTION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entury Gothic"/>
              </a:rPr>
              <a:t>If it were possible, would you want to take a genetic test telling you which diseases you are likely to suffer from later in life?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282e"/>
                </a:solidFill>
                <a:latin typeface="Century Gothic"/>
              </a:rPr>
              <a:t>If you or your partner were pregnant- would you want the unborn child tested for genetic defects?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3657600" y="838080"/>
            <a:ext cx="4195800" cy="34290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768240" y="3276360"/>
            <a:ext cx="22989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Biological determinism 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768240" y="1523880"/>
            <a:ext cx="229896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1282e"/>
                </a:solidFill>
                <a:uFillTx/>
                <a:latin typeface="Book Antiqua"/>
              </a:rPr>
              <a:t>NATURE</a:t>
            </a:r>
            <a:br>
              <a:rPr sz="1600"/>
            </a:br>
            <a:r>
              <a:rPr b="1" lang="en-US" sz="1600" spc="-1" strike="noStrike">
                <a:solidFill>
                  <a:srgbClr val="d1282e"/>
                </a:solidFill>
                <a:latin typeface="Book Antiqua"/>
              </a:rPr>
              <a:t> WHEN BIOLOGY DETERMINES CHARACTERISTIC'S</a:t>
            </a:r>
            <a:endParaRPr b="0" lang="en-US" sz="1600" spc="-1" strike="noStrike">
              <a:solidFill>
                <a:srgbClr val="5c5c5c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DOMINANT AND RECESSIVE GENES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The Tower of London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pic>
        <p:nvPicPr>
          <p:cNvPr id="340" name="Content Placeholder 9" descr=""/>
          <p:cNvPicPr/>
          <p:nvPr/>
        </p:nvPicPr>
        <p:blipFill>
          <a:blip r:embed="rId1"/>
          <a:stretch/>
        </p:blipFill>
        <p:spPr>
          <a:xfrm>
            <a:off x="507960" y="2895480"/>
            <a:ext cx="3813120" cy="2819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46 Book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19240" algn="ctr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23 donated by mother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23 donated by father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Books are Chromosomes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Chromosomes made from dna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Genes are small areas of dna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329040" indent="-219240">
              <a:spcBef>
                <a:spcPts val="601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282e"/>
                </a:solidFill>
                <a:latin typeface="Century Gothic"/>
              </a:rPr>
              <a:t>30,000 genes per chromosome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5c5c5c"/>
                </a:solidFill>
                <a:latin typeface="Book Antiqua"/>
              </a:rPr>
              <a:t>DOMINANT VS. RECESSIVE GENES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Dominant gene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25160" y="2438280"/>
            <a:ext cx="4040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Century Gothic"/>
              </a:rPr>
              <a:t>Characteristic is always present </a:t>
            </a:r>
            <a:endParaRPr b="0" lang="en-US" sz="3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Recessive genes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d3d"/>
                </a:solidFill>
                <a:latin typeface="Century Gothic"/>
              </a:rPr>
              <a:t>Two recessive genes must be paired in order for the characteristic to be present</a:t>
            </a:r>
            <a:endParaRPr b="0" lang="en-US" sz="2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d1e23"/>
                </a:solidFill>
                <a:latin typeface="Book Antiqua"/>
              </a:rPr>
              <a:t>CONSIDER DOLLY….</a:t>
            </a:r>
            <a:endParaRPr b="0" lang="en-US" sz="35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49" name="Content Placeholder 3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3059280" cy="360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Would a human clone’s adult personality mimic the person donating the genetic code?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               </a:t>
            </a: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or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1282e"/>
                </a:solidFill>
                <a:latin typeface="Century Gothic"/>
              </a:rPr>
              <a:t>Would he/she be unique?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d3d"/>
                </a:solidFill>
                <a:latin typeface="Book Antiqua"/>
              </a:rPr>
              <a:t>HEREDITY=WHEN BIOLOGY DETERMINES CHARACTERISTICS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25160" y="17222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Genetic Predisposition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25160" y="2437920"/>
            <a:ext cx="4040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Humans are born with a likelihood toward certain characteristic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Does not mean “Born with”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Usually needs something from the environment to activate- (diathesis-stress model)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Common genetic predispositions….body weight-alcoholism-Alzheimer’s-Schizophrenia 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4720" y="1722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d1282e"/>
                </a:solidFill>
                <a:latin typeface="Century Gothic"/>
              </a:rPr>
              <a:t>Genetic Determinism</a:t>
            </a:r>
            <a:endParaRPr b="0" lang="en-US" sz="2200" spc="-1" strike="noStrike">
              <a:solidFill>
                <a:srgbClr val="d1282e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4720" y="2438280"/>
            <a:ext cx="404172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The idea that genes determine characteristic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Genotype= “full” heredity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Phenotype= “observed” properties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7a7a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1282e"/>
                </a:solidFill>
                <a:latin typeface="Century Gothic"/>
              </a:rPr>
              <a:t>Common genetic abnormalities.. Down Syndrome, Williams Syndrome, Color blindness, PKU</a:t>
            </a:r>
            <a:endParaRPr b="0" lang="en-US" sz="20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5c5c"/>
                </a:solidFill>
                <a:latin typeface="Book Antiqua"/>
              </a:rPr>
              <a:t>HOW DO GENES AND THE ENVIRONMENT  INTERACT?</a:t>
            </a:r>
            <a:endParaRPr b="0" lang="en-US" sz="3200" spc="-1" strike="noStrike">
              <a:solidFill>
                <a:srgbClr val="5c5c5c"/>
              </a:solidFill>
              <a:latin typeface="Book Antiqua"/>
            </a:endParaRPr>
          </a:p>
        </p:txBody>
      </p:sp>
      <p:pic>
        <p:nvPicPr>
          <p:cNvPr id="357" name="Content Placeholder 8" descr=""/>
          <p:cNvPicPr/>
          <p:nvPr/>
        </p:nvPicPr>
        <p:blipFill>
          <a:blip r:embed="rId1"/>
          <a:stretch/>
        </p:blipFill>
        <p:spPr>
          <a:xfrm>
            <a:off x="444600" y="2743200"/>
            <a:ext cx="413388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648320" y="1719000"/>
            <a:ext cx="4038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1282e"/>
                </a:solidFill>
                <a:latin typeface="Century Gothic"/>
              </a:rPr>
              <a:t>PKU= Phenylketonuria</a:t>
            </a:r>
            <a:endParaRPr b="0" lang="en-US" sz="3600" spc="-1" strike="noStrike">
              <a:solidFill>
                <a:srgbClr val="d1282e"/>
              </a:solidFill>
              <a:latin typeface="Century Gothic"/>
            </a:endParaRPr>
          </a:p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3d3d"/>
                </a:solidFill>
                <a:latin typeface="Century Gothic"/>
              </a:rPr>
              <a:t>Occurs when parents pass along a defective gene</a:t>
            </a:r>
            <a:endParaRPr b="0" lang="en-US" sz="28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e67c7f"/>
              </a:solidFill>
              <a:latin typeface="Book Antiqu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282e"/>
                </a:solidFill>
                <a:latin typeface="Century Gothic"/>
              </a:rPr>
              <a:t>How Similar Are We?</a:t>
            </a: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  <a:p>
            <a:pPr marL="1144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1282e"/>
                </a:solidFill>
                <a:latin typeface="Century Gothic"/>
              </a:rPr>
              <a:t>How do we know?</a:t>
            </a:r>
            <a:endParaRPr b="0" lang="en-US" sz="5400" spc="-1" strike="noStrike">
              <a:solidFill>
                <a:srgbClr val="d1282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18:45:29Z</dcterms:created>
  <dc:creator>Nancy Donlon</dc:creator>
  <dc:description/>
  <dc:language>en-US</dc:language>
  <cp:lastModifiedBy>Stephanie Hein Phillips</cp:lastModifiedBy>
  <cp:lastPrinted>2013-10-21T17:24:28Z</cp:lastPrinted>
  <dcterms:modified xsi:type="dcterms:W3CDTF">2014-08-19T13:41:08Z</dcterms:modified>
  <cp:revision>31</cp:revision>
  <dc:subject/>
  <dc:title>Nature VS nurture</dc:title>
</cp:coreProperties>
</file>